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8B9-A735-4803-8A15-0D1CEB9A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24D-B117-4EB5-9822-61600891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15B-6278-4469-BD58-7C663D3A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CEF-9B51-487E-8397-534F2E01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C2E1-A789-49F7-BB7A-5934E802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2453-99C2-4253-9A9D-6EDC457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84B-B91B-44EA-B281-A7029B4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1D19-DECC-4A96-8764-B6D4FA73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D664-C86C-48D4-B971-35069EF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8156-66CB-43C0-A0E9-75FC028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239-BA01-42A3-9345-018FE74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8C1-D593-404D-B874-6C71C43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F3DA-FFB6-4A0D-BA69-436AA719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BC2-524F-4AAD-9396-0E84991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DD1C-2A60-4904-BAF5-B69BDDED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3298-EA77-436C-AE29-AD20EF19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011-C200-44C6-A6E1-BA4F3026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7D0E-D10D-4144-8861-6D248D48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0B3E-4952-4FF8-B04C-D943427C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2E12-DD20-4476-A019-0C30FC2F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A353-BBFC-4ADB-B257-66F760F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F80B-3E0B-467C-871F-FDA4DF6D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7EC-9C0D-4974-8624-9D658E7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D8DC-6E39-4614-B978-187AF113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BC31-FC74-431B-A5FC-80808E4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3E42-19A8-430E-811E-D61C148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BB51-9D05-4964-8307-D993435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A842-C007-4409-9A56-1A0D39AA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1F16-E03E-4AB9-A638-310562AB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649D-8414-4C83-803C-81260384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417B-2AFA-4E63-BDBB-DD71AEFA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2ECD-E6A2-481D-8B02-3FA49C8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22B6E-707C-435E-AB44-68CFA18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C15-8C80-47DA-B891-0263683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52D82-A21E-4A9D-B481-2CD5D33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51A1-9317-47FB-834C-DB280212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1442-BDEC-4AD9-87AA-1A865D16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155B-0802-4BB4-8AB1-BF33576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E7297-26CC-4BFF-878C-75B617D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A046-14B6-4ED8-9EAA-F403CF2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14C0-0B0F-474A-BDDA-D28D419D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0870-319D-48E1-B694-AADB006F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C1ACF-306B-415B-897C-B10473B7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922-E320-40BC-85A0-6164A420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A40-7F66-4847-9816-299C1570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1C7-E46C-43E2-877C-E657BAD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459-357D-4613-840C-9FF2F02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FCA-5467-4BFF-8224-C39C860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E3A-1693-48A8-9886-5813B16D2A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2256-8812-4DCD-893B-EC3DC4CCE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AB2D-017F-43EA-92AB-4C9702B4923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FBEA-24A3-4D92-81EE-AE23AF68F92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57920" y="197964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3.4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实际问题与一元一次方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76000" y="3581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调配问题、工程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83280" y="0"/>
            <a:ext cx="60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、某车间有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名工人，每人每天可以生产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1200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螺钉或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螺母。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螺钉需要配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螺母，为使每天生产的螺钉和螺母刚好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套，应安排生产螺钉和螺母的工人各多少名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04920" y="12160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分析：每天生产的螺母数量是螺钉数量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219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倍）时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124128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它们刚好配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8520" y="154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9360" y="1552680"/>
            <a:ext cx="49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设应安排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名工人生产螺钉，（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2-x)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名工人生产螺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4440" y="19810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00(22-x)=2×1200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1240" y="2687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7040" y="311292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5(22-x)=6x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4880" y="359712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10-5x=6x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06000" y="425592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1x=1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5640" y="49165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9680" y="539892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2-x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16120" y="61358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应安排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名工人生产螺钉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名工人生产螺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方法规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2560" y="2819520"/>
            <a:ext cx="338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生产调配问题通常从调配后各量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间的倍、分关系寻找相等关系，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立方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7800" y="6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92400" y="609480"/>
            <a:ext cx="696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一套仪器由一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和三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构成。用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立方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材可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4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。现要用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立方米钢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制作这种仪器，应用多少钢材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，多少钢材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恰好配成这种仪器多少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分析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00800" y="2362320"/>
            <a:ext cx="46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根据题意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部件的数量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部件数量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一等量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式得方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68880" y="3200400"/>
            <a:ext cx="60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：设应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钢材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件，则应用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6-x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件，根据 题意得方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79720" y="407844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0x×3=(6-x) ×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82760" y="45687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43520" y="49928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(6-x) ×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81960" y="55260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x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81600" y="60595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53040" y="40784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-x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571356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715000"/>
            <a:ext cx="59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应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钢材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件，应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钢材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-11160"/>
            <a:ext cx="13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98280"/>
            <a:ext cx="70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29360" y="0"/>
            <a:ext cx="466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整理一批图书，由一个人做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0h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完成。现计划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部分人先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h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然后增加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人与他们一起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8h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成这项工作。假设这些人的工作效率相同，具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应先安排多少人工作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752480"/>
            <a:ext cx="66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分析：如果把总工作量设为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则人均效率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02600" y="152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190512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人先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h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70680" y="207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成的工作量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6240" y="2057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4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0840" y="21733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增加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人后再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8h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完成的工作量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2097000"/>
            <a:ext cx="12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8(x+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08080" y="2362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0840" y="261144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两个工作量之和应等于总工作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8560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01140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设安排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人先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h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3800" y="2970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则根据题意列方程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86520" y="3468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4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2360" y="37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52116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9720" y="3429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8(x+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7339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35053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5800" y="405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27160" y="435924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x+8(x+2)=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27880" y="49687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x+8x+16=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56840" y="550224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2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33880" y="595944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09480" y="6338880"/>
            <a:ext cx="28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答：应安排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人先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2520" y="344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方法总结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9440" y="4114800"/>
            <a:ext cx="52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这类问题常常把总工作量看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并利用“工作量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均效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时间”的关系解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7800" y="6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09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一条地下管线由甲工程队单独铺设需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，由乙工程队单独铺设需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。如果由这两个工程队从两端同时施工，要多少天可以铺好这条管线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31320" y="24382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514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把工作量看作单位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‘”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则甲的工作效率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23623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41400" y="266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13120" y="2819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乙的工作效率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04812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352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根据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工作效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工作时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工作量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得方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80280" y="4049640"/>
            <a:ext cx="33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解：设要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天可以铺好这条管线，由题意得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6116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4440" y="475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480060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82880" y="4597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728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7440" y="48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93080" y="4876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52640" y="535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720" y="59072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x+x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29680" y="62881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x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9760" y="50292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07440" y="605952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要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天可以铺好这条管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28600" y="92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归纳小结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3080" y="68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用一元一次方程解决实际问题的基本过程如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8760" y="1316160"/>
            <a:ext cx="91224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实际问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8000" y="1239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</a:rPr>
              <a:t>设未知数，列方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3760" y="1295280"/>
            <a:ext cx="79020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一元一次方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5576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2080" y="19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3960" y="3276720"/>
            <a:ext cx="146088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实际问题的答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1828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5280" y="1828800"/>
            <a:ext cx="4546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解方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35800" y="2819520"/>
            <a:ext cx="1825200" cy="947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一元一次方程的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x=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276400">
            <a:off x="3521880" y="3031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16840" y="365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79480" y="4267080"/>
            <a:ext cx="551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这一过程包括设、列、解、检、答等步骤，即设未知数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列方程，解方程，检验所得结果，确定答案。正确分析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题中的相等关系是列方程的基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6-30T01:13:5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